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9B0A-06E5-41FA-803C-B165D361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1544-63BC-4367-A926-214699F3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ABC3-6E97-4232-8474-47353D79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CC7E-1EC8-4222-92BF-B72960BE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4832-09B9-4868-90A8-1D295126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A3FA-9546-4AC4-BA0A-0A008B05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D0D4-0640-471B-8341-017CD23E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6B0E-B46E-49DD-923A-C6D089A0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97B0-2D94-4B53-80A7-F26393E9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C15C-302D-4B38-B8AE-B31A1B1F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9E74-AEF7-4E32-8E04-60427098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8AF-22E5-4C54-B259-6BB45CAA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4B68-866F-4260-BEEC-4B898F75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2071-2540-4316-B715-A6486BCB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28BA-1B3B-473E-BD06-5CDFB3A2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FCB4-ACAB-4480-8F70-BF28CDF6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18CF-730A-48E0-B832-9FAF5198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74A-9C96-4E14-95EE-5CE6A78B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B9B-D43F-423F-AE4B-DAB68FBB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2CC-7635-45C5-B611-37F05647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1380-C876-4B2F-BC86-0BFE463E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0DC-41B6-489A-9FDA-3E969F76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A1A2-D4B1-44D7-AA02-B122B067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378E-EC60-41E0-AC58-893B8953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42E8-08F9-49F7-B9AC-E27335346A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AE1C-1AB3-44E2-9BFE-0F037784E2B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6002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99000" y="457200"/>
            <a:ext cx="657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cbcb"/>
                </a:solidFill>
                <a:latin typeface="Impact"/>
              </a:rPr>
              <a:t>Интернет Агентство </a:t>
            </a:r>
            <a:r>
              <a:rPr b="1" lang="en-US" sz="3200" spc="-1" strike="noStrike">
                <a:solidFill>
                  <a:srgbClr val="cbcbcb"/>
                </a:solidFill>
                <a:latin typeface="Impact"/>
              </a:rPr>
              <a:t>“Molino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истема электронной торговли</a:t>
            </a:r>
            <a:br>
              <a:rPr sz="44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«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CybTrade Engine»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3" name="Okshop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1981080" cy="206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otdel" descr=""/>
          <p:cNvPicPr/>
          <p:nvPr/>
        </p:nvPicPr>
        <p:blipFill>
          <a:blip r:embed="rId3"/>
          <a:stretch/>
        </p:blipFill>
        <p:spPr>
          <a:xfrm>
            <a:off x="2590920" y="4191120"/>
            <a:ext cx="1981080" cy="206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otdel_detail" descr=""/>
          <p:cNvPicPr/>
          <p:nvPr/>
        </p:nvPicPr>
        <p:blipFill>
          <a:blip r:embed="rId4"/>
          <a:stretch/>
        </p:blipFill>
        <p:spPr>
          <a:xfrm>
            <a:off x="4648320" y="4191120"/>
            <a:ext cx="1981080" cy="206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admin_tree" descr=""/>
          <p:cNvPicPr/>
          <p:nvPr/>
        </p:nvPicPr>
        <p:blipFill>
          <a:blip r:embed="rId5"/>
          <a:stretch/>
        </p:blipFill>
        <p:spPr>
          <a:xfrm>
            <a:off x="6705720" y="4191120"/>
            <a:ext cx="19810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Основные моду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уль: Торговая площадка, витр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уль: Администратор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уль: Корзина покупате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уль: Оформления зака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49" name=""/>
          <p:cNvSpPr txBox="1"/>
          <p:nvPr/>
        </p:nvSpPr>
        <p:spPr>
          <a:xfrm>
            <a:off x="5029200" y="380880"/>
            <a:ext cx="38289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Основные моду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у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Торговая площадка, витр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строе подключение дизай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граниченная вложен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страя работа и низкая нагрузка на серве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55" name=""/>
          <p:cNvSpPr txBox="1"/>
          <p:nvPr/>
        </p:nvSpPr>
        <p:spPr>
          <a:xfrm>
            <a:off x="5029200" y="228600"/>
            <a:ext cx="38289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02920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Okshop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190760" cy="390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8" name="otdel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4191120" cy="3886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1221480" y="609588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Первая страниц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9600" y="60958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Отд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952880" y="304920"/>
            <a:ext cx="382932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" name="otdel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639040" cy="5229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02920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otdel_detail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639040" cy="520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029200" y="228600"/>
            <a:ext cx="38289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okupka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639040" cy="524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моду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у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Администратор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дминистрирование через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бкая настройка систем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добный интерфейс с возможностью настрой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72" name=""/>
          <p:cNvSpPr txBox="1"/>
          <p:nvPr/>
        </p:nvSpPr>
        <p:spPr>
          <a:xfrm>
            <a:off x="4952880" y="304920"/>
            <a:ext cx="382932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5029200" y="380880"/>
            <a:ext cx="38289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admin%20copy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782040" cy="5314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105520" y="228600"/>
            <a:ext cx="38289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6" name="struktua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781680" cy="5333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1400040" y="2228760"/>
            <a:ext cx="129564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9" name="admin_tree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781680" cy="5333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Цели проект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стая в настройке систе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ксимальная функциональност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ыстрая работ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добное администрирова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ибкость и адаптивност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00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vvod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781680" cy="5314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1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моду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у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рзина покупате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требует перезагрузки страниц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траиваемый внешний ви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теряется в случае обрыва связ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87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basket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538960" cy="5249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basket1" descr=""/>
          <p:cNvPicPr/>
          <p:nvPr/>
        </p:nvPicPr>
        <p:blipFill>
          <a:blip r:embed="rId1"/>
          <a:stretch/>
        </p:blipFill>
        <p:spPr>
          <a:xfrm>
            <a:off x="1752480" y="1036800"/>
            <a:ext cx="6019920" cy="5506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Основные моду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у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формления заказ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гко настраивается под потребности конкретного магаз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ключаются дополнительные моду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оставка, оплата, регистрация, скид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97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9" name="dostavka" descr=""/>
          <p:cNvPicPr/>
          <p:nvPr/>
        </p:nvPicPr>
        <p:blipFill>
          <a:blip r:embed="rId1"/>
          <a:stretch/>
        </p:blipFill>
        <p:spPr>
          <a:xfrm>
            <a:off x="1523880" y="1192320"/>
            <a:ext cx="5562720" cy="5313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oplata" descr=""/>
          <p:cNvPicPr/>
          <p:nvPr/>
        </p:nvPicPr>
        <p:blipFill>
          <a:blip r:embed="rId1"/>
          <a:stretch/>
        </p:blipFill>
        <p:spPr>
          <a:xfrm>
            <a:off x="1447920" y="1117440"/>
            <a:ext cx="5638680" cy="5378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3" name="end" descr=""/>
          <p:cNvPicPr/>
          <p:nvPr/>
        </p:nvPicPr>
        <p:blipFill>
          <a:blip r:embed="rId1"/>
          <a:stretch/>
        </p:blipFill>
        <p:spPr>
          <a:xfrm>
            <a:off x="1447920" y="1069920"/>
            <a:ext cx="5715000" cy="5416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ополнительные модул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гистрации и сбор информации о пользователя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дминистратор внутрен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реклам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счет стоимости достав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исковая систе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09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ополнительные модул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ем безналичных платеже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теграция с бухгалтерскими систем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2B - распределение скид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копительные и персональные ски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15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Описани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CybTrade Engin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автоматизированного управления торговыми системами - предназначена для создания магазинов, каталогов товаров, аукционов и прочих торговых площадок в сети интернет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07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ополнительные модул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статисти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контро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равление базой данных пользовате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равление заказ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чтовая систем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21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ополнительные модул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тнерская програм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кетирование, голосования и рейтинг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умы обсуждения товар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ный спис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27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ехнические требова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претато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ктически любая СУБД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о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D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держивающи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ая аппаратная платфор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33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Аппаратное обеспече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орость генерации кода магазина – 1000 товар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P3/800 SCSI RAID 512Mb RAM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с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P2/350 Celeron, EIDE, 64Mb RAM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 с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P1/100 IDE, 16Mb RAM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0 с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39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ВАШИ ВОПРОСЫ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44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нет агентств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I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стантин Жебене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полнительный 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75 1705, 275 17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mail: Kz@molinos.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49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"/>
          <p:cNvSpPr/>
          <p:nvPr/>
        </p:nvSpPr>
        <p:spPr>
          <a:xfrm>
            <a:off x="303480" y="77004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Контактн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информация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55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ЦЕН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ЦЕН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ТРИ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держка – ВИТРИН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20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меся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обращ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стинг – ВИТРИ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 в месяц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талляция – ВИТРИ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61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ЦЕН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ЦЕН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ГАЗ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держка – МАГАЗИ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меся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обращ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стинг – МАГАЗ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5 в месяц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талляция – МАГАЗ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67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ЦЕН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ЦЕН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гистрации и сбор информации о пользователях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дминистратор внутрен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еклам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чет стоимости достав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исковая систем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73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Описа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133720"/>
            <a:ext cx="8153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рверное приложение, ориентированное на работу пользователей и администратора торговой системы через HTTP проток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13" name=""/>
          <p:cNvSpPr txBox="1"/>
          <p:nvPr/>
        </p:nvSpPr>
        <p:spPr>
          <a:xfrm>
            <a:off x="5029200" y="228600"/>
            <a:ext cx="38289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ЦЕН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ЦЕН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ем безналичных платеже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теграция с бухгалтерскими системам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2B - распределение скидок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копительные и персональные скид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79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ЦЕН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ЦЕН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стема статистик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контрол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ение базой данных пользователе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ение заказам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чтовая систем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85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ЦЕН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ЦЕН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ртнерская программ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2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кетирование, голосования и рейтинг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умы обсуждения товаро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рный список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91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Описа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133720"/>
            <a:ext cx="8153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позволяет очень быстро (от 30 минут) создавать полнофункциональные интернет магазины любой сложности, с любым количеством товаров, отделов и любым уровнем вложен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19" name=""/>
          <p:cNvSpPr txBox="1"/>
          <p:nvPr/>
        </p:nvSpPr>
        <p:spPr>
          <a:xfrm>
            <a:off x="502920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Описа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133720"/>
            <a:ext cx="8153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бные средства администрирования позволяют даже не подготовленному пользователю вести товарную базу и заниматься коммерческой эксплуатацией торговой площа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25" name=""/>
          <p:cNvSpPr txBox="1"/>
          <p:nvPr/>
        </p:nvSpPr>
        <p:spPr>
          <a:xfrm>
            <a:off x="5029200" y="228600"/>
            <a:ext cx="38289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Описа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2133720"/>
            <a:ext cx="8153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помощью простого макро-языка к магазину в считанные минуты подключается практически любой дизай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31" name=""/>
          <p:cNvSpPr txBox="1"/>
          <p:nvPr/>
        </p:nvSpPr>
        <p:spPr>
          <a:xfrm>
            <a:off x="4952880" y="304920"/>
            <a:ext cx="382932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Описа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яет технологию пре генерации HTML кода, что позволяет значительно снизить нагрузку на сервер и позволяет использовать специализированные тэги HTML для оптимизации поиска с помощью поисковых сист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37" name=""/>
          <p:cNvSpPr txBox="1"/>
          <p:nvPr/>
        </p:nvSpPr>
        <p:spPr>
          <a:xfrm>
            <a:off x="5105520" y="228600"/>
            <a:ext cx="38289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лизован набор различных функций и модулей необходимых для работы системы электронной коммерц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43" name=""/>
          <p:cNvSpPr txBox="1"/>
          <p:nvPr/>
        </p:nvSpPr>
        <p:spPr>
          <a:xfrm>
            <a:off x="5029200" y="228600"/>
            <a:ext cx="38289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0:00:39Z</dcterms:created>
  <dc:creator>Константин Жебенев</dc:creator>
  <dc:description/>
  <dc:language>en-US</dc:language>
  <cp:lastModifiedBy>Константин Жебенев</cp:lastModifiedBy>
  <dcterms:modified xsi:type="dcterms:W3CDTF">2001-04-12T16:33:42Z</dcterms:modified>
  <cp:revision>64</cp:revision>
  <dc:subject/>
  <dc:title>Обзор проекта</dc:title>
</cp:coreProperties>
</file>